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DF636-2546-4132-A36F-032D13EDF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A1966-08E2-45A2-A1C4-1F292D762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8E912-2202-4DDE-B95D-175B8C4E6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C672F-5678-4657-ACC8-007D1F809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3A74B-1023-484C-906F-52DFB80F0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60581-58AC-4602-A419-B28BADC10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4E86D-FB23-49FD-9583-99CC597FE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19404-60A8-4C9D-9297-EB8E4D1DD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0A97E-0C4C-42E0-9C7F-FD19B2FD9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5A04D-DF78-41E1-BF1A-7064C0477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10CBA-0A10-41A1-94B7-244570825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64034-22A4-49E3-A10C-E6DD11BCD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DA2BE-3E14-4EEF-B60D-E49CF036D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087AF-E5A8-4745-8B0D-1316DC138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3B575-2BFD-4D90-AF23-765A8C0DE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EDE21-A608-4618-A532-3EBEF61E0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28D13-D131-4146-BE38-22BB489D1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5A831-7027-444C-82EB-E8814261E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F4735-9CAA-4983-9E0E-1598068F7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31BCC-F291-44DF-A01B-7647C99C6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09D6C-0DEC-487A-AA69-FFD5315A0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95869-3FA4-4B80-9CDE-94B429EFA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034B1-665B-4F7C-8415-6968CE056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E28E2-DFA9-4896-A5A1-342217EBC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5B62C-A6F6-4727-98FE-16A1379550D2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265FD-3566-4DC0-9594-B943BFB0A12D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1413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Диагностика по теме: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3429000"/>
            <a:ext cx="603252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cc"/>
                </a:solidFill>
                <a:latin typeface="Comic Sans MS"/>
              </a:rPr>
              <a:t>Кодирование графической информаци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Задание № 3</a:t>
            </a:r>
            <a:br>
              <a:rPr sz="4000"/>
            </a:br>
            <a:r>
              <a:rPr b="0" lang="en-US" sz="4000" spc="-1" strike="noStrike">
                <a:solidFill>
                  <a:srgbClr val="00b200"/>
                </a:solidFill>
                <a:latin typeface="Comic Sans MS"/>
              </a:rPr>
              <a:t>«Дорисуй бабочку»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412640"/>
            <a:ext cx="769608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cc"/>
                </a:solidFill>
                <a:latin typeface="Comic Sans MS"/>
              </a:rPr>
              <a:t>Цель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выявить умения создавать графические изображения с опорой на частичный образец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cc"/>
                </a:solidFill>
                <a:latin typeface="Comic Sans MS"/>
              </a:rPr>
              <a:t>Содержание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ребёнку предлагается дорисовать вторую половинку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cc"/>
                </a:solidFill>
                <a:latin typeface="Comic Sans MS"/>
              </a:rPr>
              <a:t>Инструкция 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дорисуй бабочки так, чтобы её крылышки были одинаковыми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9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684360" y="333360"/>
            <a:ext cx="7632720" cy="52563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685800" y="907920"/>
            <a:ext cx="7696080" cy="457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99"/>
                </a:solidFill>
                <a:latin typeface="Comic Sans MS"/>
              </a:rPr>
              <a:t>Оценка результатов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Comic Sans MS"/>
              </a:rPr>
              <a:t>3балла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– ребёнок правильно без ошибок нарисовал вторую половинку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Comic Sans MS"/>
              </a:rPr>
              <a:t>2балла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– ребенок допускал незначительные ошибки.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Comic Sans MS"/>
              </a:rPr>
              <a:t>1балл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- ребёнок не справился с заданием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Задание № 4</a:t>
            </a:r>
            <a:br>
              <a:rPr sz="3200"/>
            </a:br>
            <a:r>
              <a:rPr b="0" lang="en-US" sz="4000" spc="-1" strike="noStrike">
                <a:solidFill>
                  <a:srgbClr val="00b200"/>
                </a:solidFill>
                <a:latin typeface="Comic Sans MS"/>
              </a:rPr>
              <a:t>«Графический диктант»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483920"/>
            <a:ext cx="769608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Comic Sans MS"/>
              </a:rPr>
              <a:t>Цель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выявить умение ориентироваться в плоскости листа (клетка, строка), умение действовать по инструкции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Comic Sans MS"/>
              </a:rPr>
              <a:t>Содержание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ребёнку предлагается построить изображения по словесной инструкции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Comic Sans MS"/>
              </a:rPr>
              <a:t>Инструкция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поставь карандаш на самую верхнюю точку, и проводи только те линии, которые я буду диктовать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9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914400" y="404640"/>
            <a:ext cx="7315200" cy="51120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685800" y="907920"/>
            <a:ext cx="7696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99"/>
                </a:solidFill>
                <a:latin typeface="Comic Sans MS"/>
              </a:rPr>
              <a:t>Оценка результатов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Comic Sans MS"/>
              </a:rPr>
              <a:t>3балла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- рисунок в целом соответствует диктуемому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Comic Sans MS"/>
              </a:rPr>
              <a:t>2балла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-рисунок частично соответствует диктуемому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Comic Sans MS"/>
              </a:rPr>
              <a:t>1балл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-рисунок не соответствует диктуемому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2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Задание № 5</a:t>
            </a:r>
            <a:br>
              <a:rPr sz="4000"/>
            </a:br>
            <a:r>
              <a:rPr b="0" lang="en-US" sz="4000" spc="-1" strike="noStrike">
                <a:solidFill>
                  <a:srgbClr val="00b200"/>
                </a:solidFill>
                <a:latin typeface="Comic Sans MS"/>
              </a:rPr>
              <a:t>«Цветочная поляна»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412640"/>
            <a:ext cx="769608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6600cc"/>
                </a:solidFill>
                <a:latin typeface="Comic Sans MS"/>
              </a:rPr>
              <a:t>Цель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выявить умения создавать изображения с использованием шаблона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Comic Sans MS"/>
              </a:rPr>
              <a:t>Содержание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ребёнку с помощью шаблона необходимо   нарисовать цветочки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Comic Sans MS"/>
              </a:rPr>
              <a:t>Инструкция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тебе необходимо «помочь пчелке украсить поляну цветами»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9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85800" y="907920"/>
            <a:ext cx="7696080" cy="457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99"/>
                </a:solidFill>
                <a:latin typeface="Comic Sans MS"/>
              </a:rPr>
              <a:t>Оценка результатов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Comic Sans MS"/>
              </a:rPr>
              <a:t>3балла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– ребёнок аккуратно, правильно нарисовал цветы по шаблону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Comic Sans MS"/>
              </a:rPr>
              <a:t>2балла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– ребенок допускал незначительные ошибки.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Comic Sans MS"/>
              </a:rPr>
              <a:t>1балл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- ребёнок не справился с заданием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685800" y="1052640"/>
            <a:ext cx="7696080" cy="44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cc00"/>
                </a:solidFill>
                <a:latin typeface="Comic Sans MS"/>
              </a:rPr>
              <a:t>1-1.6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-низкий уровень.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cc00"/>
                </a:solidFill>
                <a:latin typeface="Comic Sans MS"/>
              </a:rPr>
              <a:t>1,7-2,3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-средний уровень.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cc00"/>
                </a:solidFill>
                <a:latin typeface="Comic Sans MS"/>
              </a:rPr>
              <a:t>2,4-3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-высокий уровень.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684360" y="404640"/>
            <a:ext cx="76960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200"/>
                </a:solidFill>
                <a:latin typeface="Comic Sans MS"/>
              </a:rPr>
              <a:t>Характеристика уровней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cc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0099"/>
                </a:solidFill>
                <a:uFillTx/>
                <a:latin typeface="Comic Sans MS"/>
              </a:rPr>
              <a:t>Низкий</a:t>
            </a:r>
            <a:r>
              <a:rPr b="0" lang="en-US" sz="2400" spc="-1" strike="noStrike">
                <a:solidFill>
                  <a:srgbClr val="cc0099"/>
                </a:solidFill>
                <a:latin typeface="Comic Sans MS"/>
              </a:rPr>
              <a:t> </a:t>
            </a:r>
            <a:r>
              <a:rPr b="0" lang="en-US" sz="2400" spc="-1" strike="noStrike" u="sng">
                <a:solidFill>
                  <a:srgbClr val="cc0099"/>
                </a:solidFill>
                <a:uFillTx/>
                <a:latin typeface="Comic Sans MS"/>
              </a:rPr>
              <a:t>уровень</a:t>
            </a:r>
            <a:r>
              <a:rPr b="0" lang="en-US" sz="2400" spc="-1" strike="noStrike">
                <a:solidFill>
                  <a:srgbClr val="cc0099"/>
                </a:solidFill>
                <a:latin typeface="Comic Sans MS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графические навыки развиты очень слабо, размер элементов не соответствует эталону; характер линий неровный, дрожащий, двойной, исправленный; ребенок  неверно воспроизводит последовательность элементов, не доводит работу до конца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cc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0099"/>
                </a:solidFill>
                <a:uFillTx/>
                <a:latin typeface="Comic Sans MS"/>
              </a:rPr>
              <a:t>Средний</a:t>
            </a:r>
            <a:r>
              <a:rPr b="0" lang="en-US" sz="2400" spc="-1" strike="noStrike">
                <a:solidFill>
                  <a:srgbClr val="cc0099"/>
                </a:solidFill>
                <a:latin typeface="Comic Sans MS"/>
              </a:rPr>
              <a:t> </a:t>
            </a:r>
            <a:r>
              <a:rPr b="0" lang="en-US" sz="2400" spc="-1" strike="noStrike" u="sng">
                <a:solidFill>
                  <a:srgbClr val="cc0099"/>
                </a:solidFill>
                <a:uFillTx/>
                <a:latin typeface="Comic Sans MS"/>
              </a:rPr>
              <a:t>уровень</a:t>
            </a:r>
            <a:r>
              <a:rPr b="0" lang="en-US" sz="2400" spc="-1" strike="noStrike">
                <a:solidFill>
                  <a:srgbClr val="cc0099"/>
                </a:solidFill>
                <a:latin typeface="Comic Sans MS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есть некоторые трудности графических движений, возможно незначительное  отклонение от строчки, нарушение симметрии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cc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0099"/>
                </a:solidFill>
                <a:uFillTx/>
                <a:latin typeface="Comic Sans MS"/>
              </a:rPr>
              <a:t>Высокий</a:t>
            </a:r>
            <a:r>
              <a:rPr b="0" lang="en-US" sz="2400" spc="-1" strike="noStrike">
                <a:solidFill>
                  <a:srgbClr val="cc0099"/>
                </a:solidFill>
                <a:latin typeface="Comic Sans MS"/>
              </a:rPr>
              <a:t> </a:t>
            </a:r>
            <a:r>
              <a:rPr b="0" lang="en-US" sz="2400" spc="-1" strike="noStrike" u="sng">
                <a:solidFill>
                  <a:srgbClr val="cc0099"/>
                </a:solidFill>
                <a:uFillTx/>
                <a:latin typeface="Comic Sans MS"/>
              </a:rPr>
              <a:t>уровень</a:t>
            </a:r>
            <a:r>
              <a:rPr b="0" lang="en-US" sz="2400" spc="-1" strike="noStrike">
                <a:solidFill>
                  <a:srgbClr val="cc0099"/>
                </a:solidFill>
                <a:latin typeface="Comic Sans MS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графические навыки сформированы достаточно хорошо; характер линий ровный; размер элементов соответствует эталону, ребенок правильно воспроизводит последовательность элементов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3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99"/>
                </a:solidFill>
                <a:latin typeface="Comic Sans MS"/>
              </a:rPr>
              <a:t>Цель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0256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Выявить уровень    сформированности графических навыков (кодирование).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edge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768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" dur="768" fill="hold"/>
                                        <p:tgtEl>
                                          <p:spTgt spid="15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9" dur="768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1" dur="768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10920" y="-36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99"/>
                </a:solidFill>
                <a:latin typeface="Comic Sans MS"/>
              </a:rPr>
              <a:t>Задачи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197000"/>
            <a:ext cx="769608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Для реализации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цели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нами были определены следующие задачи: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99"/>
                </a:solidFill>
                <a:latin typeface="Comic Sans MS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подобрать диагностические задания по выявлению уровня сформированности графических навыков детей старшего дошкольного возраста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99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провести диагностику для выявления уровня сформированности графических навыков детей старшего дошкольного возраста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99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проанализировать полученные результаты диагностики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edge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768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7" dur="768" fill="hold"/>
                                        <p:tgtEl>
                                          <p:spTgt spid="15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9" dur="768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1" dur="768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Задание № 1</a:t>
            </a:r>
            <a:br>
              <a:rPr sz="4000"/>
            </a:br>
            <a:r>
              <a:rPr b="0" lang="en-US" sz="4000" spc="-1" strike="noStrike">
                <a:solidFill>
                  <a:srgbClr val="00b200"/>
                </a:solidFill>
                <a:latin typeface="Comic Sans MS"/>
              </a:rPr>
              <a:t>«Дорисуй дождик»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440" y="1268280"/>
            <a:ext cx="784692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Comic Sans MS"/>
              </a:rPr>
              <a:t>Цель</a:t>
            </a:r>
            <a:r>
              <a:rPr b="0" lang="en-US" sz="2800" spc="-1" strike="noStrike">
                <a:solidFill>
                  <a:srgbClr val="6600cc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выявить умение правильно выполнять линии, соблюдение направления и одинакового расстояния между ними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Comic Sans MS"/>
              </a:rPr>
              <a:t>Содержание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ребёнку предлагается картина, где необходимо дорисовать дождик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Comic Sans MS"/>
              </a:rPr>
              <a:t>Инструкция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Постарайся нарисовать дождик ровными, прямыми линиями, старайся соблюдать одинаковое расстояние между ними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9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685800" y="764640"/>
            <a:ext cx="7696080" cy="472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684360" y="476280"/>
            <a:ext cx="7775280" cy="54007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685800" y="691920"/>
            <a:ext cx="7696080" cy="47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99"/>
                </a:solidFill>
                <a:latin typeface="Comic Sans MS"/>
              </a:rPr>
              <a:t>Оценка результатов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Comic Sans MS"/>
              </a:rPr>
              <a:t>3балла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- линии ровные, соблюдение направление и одинакового расстояниями между ними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Comic Sans MS"/>
              </a:rPr>
              <a:t>2балла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-линии не ровные, ребенок не соблюдает одинакового расстояния, изменяет направления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Comic Sans MS"/>
              </a:rPr>
              <a:t>1балл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-не справился с заданием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2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Задание №2</a:t>
            </a:r>
            <a:br>
              <a:rPr sz="4000"/>
            </a:br>
            <a:r>
              <a:rPr b="0" lang="en-US" sz="4000" spc="-1" strike="noStrike">
                <a:solidFill>
                  <a:srgbClr val="00b200"/>
                </a:solidFill>
                <a:latin typeface="Comic Sans MS"/>
              </a:rPr>
              <a:t>«Волшебная картина»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412640"/>
            <a:ext cx="769608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cc"/>
                </a:solidFill>
                <a:latin typeface="Comic Sans MS"/>
              </a:rPr>
              <a:t>Цель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выявить умения осуществлять основные графические операции(соединение точек линиями)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cc"/>
                </a:solidFill>
                <a:latin typeface="Comic Sans MS"/>
              </a:rPr>
              <a:t>Содержание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ребёнку предлагается задание- соединить точки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Comic Sans MS"/>
              </a:rPr>
              <a:t>Инструкция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обведи точки не отрывая карандаш от листа бумаги и ты увидишь волшебную картину.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9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900000" y="476280"/>
            <a:ext cx="7315200" cy="51134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685800" y="691920"/>
            <a:ext cx="7696080" cy="47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99"/>
                </a:solidFill>
                <a:latin typeface="Comic Sans MS"/>
              </a:rPr>
              <a:t>Оценка результатов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Comic Sans MS"/>
              </a:rPr>
              <a:t>3балла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– ребёнок правильно без ошибок соединил точки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Comic Sans MS"/>
              </a:rPr>
              <a:t>2балла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– ребенок допускал незначительные ошибки.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Comic Sans MS"/>
              </a:rPr>
              <a:t>1балл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- ребёнок не справился с заданием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0T18:17:30Z</dcterms:created>
  <dc:creator>Наташа</dc:creator>
  <dc:description/>
  <dc:language>en-US</dc:language>
  <cp:lastModifiedBy>Администратор</cp:lastModifiedBy>
  <dcterms:modified xsi:type="dcterms:W3CDTF">2010-03-09T10:02:10Z</dcterms:modified>
  <cp:revision>6</cp:revision>
  <dc:subject/>
  <dc:title>Диагностика по теме:</dc:title>
</cp:coreProperties>
</file>